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3.png" ContentType="image/png"/>
  <Override PartName="/ppt/media/image38.gif" ContentType="image/gif"/>
  <Override PartName="/ppt/media/image47.jpeg" ContentType="image/jpeg"/>
  <Override PartName="/ppt/media/image48.png" ContentType="image/png"/>
  <Override PartName="/ppt/media/image50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36.png" ContentType="image/png"/>
  <Override PartName="/ppt/media/image33.png" ContentType="image/png"/>
  <Override PartName="/ppt/media/image32.png" ContentType="image/png"/>
  <Override PartName="/ppt/media/image1.jpeg" ContentType="image/jpeg"/>
  <Override PartName="/ppt/media/image31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2089080" cy="92736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2340000" y="179280"/>
            <a:ext cx="6318000" cy="792000"/>
            <a:chOff x="2340000" y="179280"/>
            <a:chExt cx="6318000" cy="792000"/>
          </a:xfrm>
        </p:grpSpPr>
        <p:sp>
          <p:nvSpPr>
            <p:cNvPr id="3" name=""/>
            <p:cNvSpPr/>
            <p:nvPr/>
          </p:nvSpPr>
          <p:spPr>
            <a:xfrm flipH="1">
              <a:off x="5490360" y="179280"/>
              <a:ext cx="91656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742160" y="179280"/>
              <a:ext cx="91548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40000" y="180000"/>
              <a:ext cx="91512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669744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40740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624996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© Learning Light, 2006</a:t>
            </a:r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44000" y="623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9562-4410-4841-8EC1-7D9492A40F73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92360" y="1628640"/>
            <a:ext cx="6836760" cy="3200400"/>
            <a:chOff x="1692360" y="1628640"/>
            <a:chExt cx="6836760" cy="3200400"/>
          </a:xfrm>
        </p:grpSpPr>
        <p:sp>
          <p:nvSpPr>
            <p:cNvPr id="48" name=""/>
            <p:cNvSpPr/>
            <p:nvPr/>
          </p:nvSpPr>
          <p:spPr>
            <a:xfrm flipH="1">
              <a:off x="7005600" y="162864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213880" y="162864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423240" y="162864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423240" y="330516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92360" y="330516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005600" y="3305160"/>
              <a:ext cx="152352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554040" cy="83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2914920" cy="129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0720" y="6093000"/>
            <a:ext cx="723960" cy="50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5b5b5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b5b5b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e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98.51.197.224/images/ConED/womanonphone.jpg&amp;imgrefurl=http://www.howardcc.edu/process.cfm%3Fpage_id%3D860&amp;h=1161&amp;w=1800&amp;sz=704&amp;tbnid=ixbu0J1uGDTjnM:&amp;tbnh=96&amp;tbnw=150&amp;hl=en&amp;start=6&amp;prev=/images%3Fq%3Dwoman%2Bphone%26svnum%3D10%26hl%3Den%26lr%3D%26rls%3DGGLG,GGLG:2006-15,GGLG:en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nowledgenet.com/elearningsolutions/content/mobile.jsp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eamstime.com/businesspda-thumb229873&amp;imgrefurl=http://www.dreamstime.com/businesspda-image229873&amp;h=200&amp;w=300&amp;sz=28&amp;tbnid=QaJlwZcS2rBqwM:&amp;tbnh=74&amp;tbnw=111&amp;hl=en&amp;start=9&amp;prev=/images%3Fq%3Dbusiness%2Bman%2Bpda%26svnum%3D10%26hl%3Den%26lr%3D%26rls%3DGGLG,GGLG:2006-15,GGLG:e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3715920"/>
            <a:ext cx="7408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Jane Kn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Head of Research Servic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and cours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947960"/>
            <a:ext cx="8569080" cy="264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5276880"/>
            <a:ext cx="4824360" cy="45972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INSEAD/Nokia/icus Project 2001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hones were useful f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Memory joggers, tips of the day, glossary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Reminders and alerts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Just in time changes/clarifica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urse registr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esting and assessment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earching for specific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mmunications with peers and coach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637000"/>
            <a:ext cx="3240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0334" t="31920" r="31910" b="31899"/>
          <a:stretch/>
        </p:blipFill>
        <p:spPr>
          <a:xfrm>
            <a:off x="1763640" y="1413000"/>
            <a:ext cx="59770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rcRect l="30334" t="31920" r="31910" b="31899"/>
          <a:stretch/>
        </p:blipFill>
        <p:spPr>
          <a:xfrm>
            <a:off x="395280" y="1916280"/>
            <a:ext cx="2089080" cy="145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2349360"/>
            <a:ext cx="7016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268360" y="1844640"/>
            <a:ext cx="254484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1574640" cy="178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979640" y="3789360"/>
            <a:ext cx="129528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2914560" cy="562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635280" y="1125360"/>
            <a:ext cx="2376720" cy="71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268360" y="4941720"/>
            <a:ext cx="2619720" cy="50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0" b="28591"/>
          <a:stretch/>
        </p:blipFill>
        <p:spPr>
          <a:xfrm>
            <a:off x="3708360" y="2492280"/>
            <a:ext cx="11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49640" t="0" r="0" b="0"/>
          <a:stretch/>
        </p:blipFill>
        <p:spPr>
          <a:xfrm>
            <a:off x="6588000" y="1125360"/>
            <a:ext cx="1800360" cy="1619280"/>
          </a:xfrm>
          <a:prstGeom prst="rect">
            <a:avLst/>
          </a:prstGeom>
          <a:ln w="12600">
            <a:solidFill>
              <a:srgbClr val="b5b5b5"/>
            </a:solidFill>
            <a:miter/>
          </a:ln>
        </p:spPr>
      </p:pic>
      <p:grpSp>
        <p:nvGrpSpPr>
          <p:cNvPr id="167" name=""/>
          <p:cNvGrpSpPr/>
          <p:nvPr/>
        </p:nvGrpSpPr>
        <p:grpSpPr>
          <a:xfrm>
            <a:off x="5292720" y="2781360"/>
            <a:ext cx="3373200" cy="576360"/>
            <a:chOff x="5292720" y="2781360"/>
            <a:chExt cx="3373200" cy="576360"/>
          </a:xfrm>
        </p:grpSpPr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5513400" y="2781360"/>
              <a:ext cx="3152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3"/>
            <a:stretch/>
          </p:blipFill>
          <p:spPr>
            <a:xfrm>
              <a:off x="5292720" y="3129120"/>
              <a:ext cx="3085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5651640" y="3645000"/>
            <a:ext cx="126036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7020000" y="4581360"/>
            <a:ext cx="15112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DAs were successfu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devices are already in place and in use, e.g.   large corporates - for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orce is mobile, e.g. sales force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ownsid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purchase of devices 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content development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today and in the fu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is able to support new trends in workplace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embraces the concepts of Web 2.0, which are already changing e-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, ubiquitous and more functional mobile devices are helping to make mobile learning more success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v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4581360"/>
            <a:ext cx="403200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365720"/>
            <a:ext cx="3311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80% of workplace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58136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365720"/>
            <a:ext cx="79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515772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9080" y="494172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100% spen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5805360"/>
            <a:ext cx="223236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589720"/>
            <a:ext cx="1584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verage 4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raining days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per year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501336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360" y="342900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42900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n mobile phon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78136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S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341360"/>
            <a:ext cx="1430280" cy="13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Your new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daily 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Spanish word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is: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taverna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(a bar)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1468440" cy="18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515772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M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15320" t="26382" r="28609" b="9647"/>
          <a:stretch/>
        </p:blipFill>
        <p:spPr>
          <a:xfrm>
            <a:off x="2990880" y="1197000"/>
            <a:ext cx="5468760" cy="4680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on PD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31027" t="12586" r="33024" b="6684"/>
          <a:stretch/>
        </p:blipFill>
        <p:spPr>
          <a:xfrm>
            <a:off x="4572000" y="2781360"/>
            <a:ext cx="2136600" cy="3600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360" y="5373720"/>
            <a:ext cx="2879640" cy="39888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ject from CTAD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29329" t="12586" r="33877" b="7683"/>
          <a:stretch/>
        </p:blipFill>
        <p:spPr>
          <a:xfrm>
            <a:off x="324000" y="836640"/>
            <a:ext cx="2303280" cy="3743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 "/>
          <p:cNvPicPr/>
          <p:nvPr/>
        </p:nvPicPr>
        <p:blipFill>
          <a:blip r:embed="rId3"/>
          <a:stretch/>
        </p:blipFill>
        <p:spPr>
          <a:xfrm>
            <a:off x="6948360" y="1197000"/>
            <a:ext cx="1771920" cy="2352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659640" y="3860640"/>
            <a:ext cx="24112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irst Aid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or the Pocket PC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rcRect l="31965" t="12586" r="34209" b="6512"/>
          <a:stretch/>
        </p:blipFill>
        <p:spPr>
          <a:xfrm>
            <a:off x="2556000" y="1557360"/>
            <a:ext cx="2087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2356" t="19462" r="16021" b="7678"/>
          <a:stretch/>
        </p:blipFill>
        <p:spPr>
          <a:xfrm>
            <a:off x="1042920" y="620640"/>
            <a:ext cx="6986520" cy="53294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b5b5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5b5b5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Games-based learning (aka Serious games) and Simula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For Net-Generation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Ideal form factor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3" name="" descr="Lemonade Tycoon by JAMDAT (Pocket PC)"/>
          <p:cNvPicPr/>
          <p:nvPr/>
        </p:nvPicPr>
        <p:blipFill>
          <a:blip r:embed="rId1"/>
          <a:stretch/>
        </p:blipFill>
        <p:spPr>
          <a:xfrm>
            <a:off x="5580000" y="3500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80000" y="5300640"/>
            <a:ext cx="23050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Lemonade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Tyco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2] 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is taking on board and complementing the concepts of Web 2.0 which have led to the emergence of E-Learning 2.0 and … Mobile Learning 2.0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3357720"/>
            <a:ext cx="4067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1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357720"/>
            <a:ext cx="3959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435560"/>
            <a:ext cx="4105440" cy="15721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437000"/>
            <a:ext cx="3959280" cy="155700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haring (conten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yndic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gg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844640"/>
            <a:ext cx="406728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E-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1844640"/>
            <a:ext cx="403236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Mobile 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social application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oblogs and v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odcasts (audio blogs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ollaborative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3] Ubiquitous de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32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 successful devices are those already being significantly use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– moblogging and vlogg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s/MP3 players - po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3545" t="0" r="17649" b="0"/>
          <a:stretch/>
        </p:blipFill>
        <p:spPr>
          <a:xfrm>
            <a:off x="4284720" y="1197000"/>
            <a:ext cx="143964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724360" y="2349360"/>
            <a:ext cx="2367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3806" t="17522" r="17535" b="8663"/>
          <a:stretch/>
        </p:blipFill>
        <p:spPr>
          <a:xfrm>
            <a:off x="1257480" y="620640"/>
            <a:ext cx="6697440" cy="54007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8675" t="17522" r="10890" b="10631"/>
          <a:stretch/>
        </p:blipFill>
        <p:spPr>
          <a:xfrm>
            <a:off x="541440" y="1052640"/>
            <a:ext cx="7845480" cy="5256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f5f5f"/>
                </a:solidFill>
                <a:latin typeface="Arial"/>
              </a:rPr>
              <a:t>Learning tools</a:t>
            </a:r>
            <a:endParaRPr b="0" lang="en-US" sz="35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Course blog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5685" t="18507" r="9376" b="7678"/>
          <a:stretch/>
        </p:blipFill>
        <p:spPr>
          <a:xfrm>
            <a:off x="468360" y="620640"/>
            <a:ext cx="8285040" cy="539928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12536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fessional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149720"/>
            <a:ext cx="1727280" cy="1440000"/>
          </a:xfrm>
          <a:prstGeom prst="ellipse">
            <a:avLst/>
          </a:prstGeom>
          <a:solidFill>
            <a:srgbClr val="ffe600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Research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22100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Membership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4360" y="4941720"/>
            <a:ext cx="395928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4221000"/>
            <a:ext cx="151272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have free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ccess to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wn research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2060640"/>
            <a:ext cx="1657440" cy="223200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492280"/>
            <a:ext cx="1513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research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s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onsultancy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133720"/>
            <a:ext cx="1800360" cy="215892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2565360"/>
            <a:ext cx="1584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client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utomatically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become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3138" t="18507" r="5685" b="10631"/>
          <a:stretch/>
        </p:blipFill>
        <p:spPr>
          <a:xfrm>
            <a:off x="142920" y="982800"/>
            <a:ext cx="8893080" cy="518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logging and vlogg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367000" cy="3456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6119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+ broa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or MP3 play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y popula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eople listen to podcasts in their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aily l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ownload the audio (or video) file to your PC (and copy to MP3 player if you want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R Subscribe to the podcast (using RSS and aggregator) and let the computer take care of i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7256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1440" y="115920"/>
            <a:ext cx="86216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rporate pod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844640"/>
            <a:ext cx="28796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ales Training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duct updates and competitor informati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0360" y="3429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700280"/>
            <a:ext cx="3527280" cy="403380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1628640"/>
            <a:ext cx="367164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News and Briefings (B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OneIT news and briefings including strategic initiativ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076640"/>
            <a:ext cx="352728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nagement Developm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Access to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 management guru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4984" t="19491" r="12367" b="12600"/>
          <a:stretch/>
        </p:blipFill>
        <p:spPr>
          <a:xfrm>
            <a:off x="217440" y="620640"/>
            <a:ext cx="8817120" cy="54324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12367" t="18507" r="15320" b="11616"/>
          <a:stretch/>
        </p:blipFill>
        <p:spPr>
          <a:xfrm>
            <a:off x="901800" y="692280"/>
            <a:ext cx="7053120" cy="5111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1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554" t="17522" r="3138" b="7678"/>
          <a:stretch/>
        </p:blipFill>
        <p:spPr>
          <a:xfrm>
            <a:off x="541440" y="1090440"/>
            <a:ext cx="7845480" cy="457056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2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477" t="18507" r="25619" b="7678"/>
          <a:stretch/>
        </p:blipFill>
        <p:spPr>
          <a:xfrm>
            <a:off x="1477800" y="1052640"/>
            <a:ext cx="6553440" cy="49752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259" name="" descr="RSA"/>
          <p:cNvPicPr/>
          <p:nvPr/>
        </p:nvPicPr>
        <p:blipFill>
          <a:blip r:embed="rId2"/>
          <a:stretch/>
        </p:blipFill>
        <p:spPr>
          <a:xfrm>
            <a:off x="395280" y="1268280"/>
            <a:ext cx="809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5353" t="18704" r="7162" b="15357"/>
          <a:stretch/>
        </p:blipFill>
        <p:spPr>
          <a:xfrm>
            <a:off x="325440" y="981000"/>
            <a:ext cx="8532720" cy="482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3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675" t="13585" r="11591" b="7678"/>
          <a:stretch/>
        </p:blipFill>
        <p:spPr>
          <a:xfrm>
            <a:off x="755640" y="404640"/>
            <a:ext cx="7777080" cy="5759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 podcasting terminolog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ogogy = “pedagogical podcasting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audio lectur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video lectures (audio + PowerPoint slides)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ing content cre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ree podcasts to subscribe t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eate your own using free and low cost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se specialised ser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and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770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mo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v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yndicated via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RS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4365720"/>
            <a:ext cx="38894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urse support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llaborative learning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instructional content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 (coursecasts)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350208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50208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35280" y="2492280"/>
            <a:ext cx="5616360" cy="70344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4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1640" y="3860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You heard it here first!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4520" y="115920"/>
            <a:ext cx="87645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 Research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Quick Guides to trends and technolog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Podcast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Blogg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eb 2.0 technologi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4653000"/>
            <a:ext cx="7345440" cy="13230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ww.learninglight.com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jane.knight@learninglight.com 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-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-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-Learning today and in the futur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0920" y="1125360"/>
            <a:ext cx="2449440" cy="3419640"/>
            <a:chOff x="250920" y="1125360"/>
            <a:chExt cx="2449440" cy="3419640"/>
          </a:xfrm>
        </p:grpSpPr>
        <p:sp>
          <p:nvSpPr>
            <p:cNvPr id="117" name=""/>
            <p:cNvSpPr/>
            <p:nvPr/>
          </p:nvSpPr>
          <p:spPr>
            <a:xfrm>
              <a:off x="250920" y="1125360"/>
              <a:ext cx="24494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Mobile learning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 originally referred to the use of laptop computers, which freed learners from the desktop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828720" y="2708280"/>
              <a:ext cx="1366920" cy="18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140360" y="2565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Mobile phones opened up the concept of </a:t>
            </a:r>
            <a:r>
              <a:rPr b="1" lang="en-GB" sz="2000" spc="-1" strike="noStrike">
                <a:solidFill>
                  <a:srgbClr val="808080"/>
                </a:solidFill>
                <a:latin typeface="Rotis Sans Serif for Nokia"/>
              </a:rPr>
              <a:t>wireless learning </a:t>
            </a: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(via GPRS and GSM)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366920" cy="10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4653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2360" y="4724280"/>
            <a:ext cx="2742480" cy="1191240"/>
          </a:xfrm>
          <a:prstGeom prst="rect">
            <a:avLst/>
          </a:prstGeom>
          <a:solidFill>
            <a:srgbClr val="b5b5b5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“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Learning has moved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from the classroom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onto your desktop 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nd into your pocket”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41300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92720" y="1197000"/>
            <a:ext cx="3924360" cy="1008000"/>
          </a:xfrm>
          <a:prstGeom prst="rect">
            <a:avLst/>
          </a:prstGeom>
          <a:solidFill>
            <a:srgbClr val="b5b5b5"/>
          </a:solidFill>
          <a:ln w="1260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 you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Independent of time and</a:t>
            </a:r>
            <a:r>
              <a:rPr b="1" lang="en-GB" sz="2000" spc="-1" strike="noStrike">
                <a:solidFill>
                  <a:srgbClr val="0a0900"/>
                </a:solidFill>
                <a:latin typeface="Rotis Sans Serif for Nokia"/>
              </a:rPr>
              <a:t> 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spac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43280" y="3933720"/>
            <a:ext cx="3673080" cy="1800000"/>
            <a:chOff x="4643280" y="3933720"/>
            <a:chExt cx="3673080" cy="1800000"/>
          </a:xfrm>
        </p:grpSpPr>
        <p:sp>
          <p:nvSpPr>
            <p:cNvPr id="126" name=""/>
            <p:cNvSpPr/>
            <p:nvPr/>
          </p:nvSpPr>
          <p:spPr>
            <a:xfrm>
              <a:off x="5942520" y="3933720"/>
              <a:ext cx="23738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Pocket PCs and other devices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used for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learning purposes led to the term 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handheld learning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43280" y="4078080"/>
              <a:ext cx="1071360" cy="1152360"/>
              <a:chOff x="4643280" y="4078080"/>
              <a:chExt cx="1071360" cy="11523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4078080"/>
                <a:ext cx="760680" cy="92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73760" y="4204800"/>
                <a:ext cx="740880" cy="102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0" name="" descr=""/>
          <p:cNvPicPr/>
          <p:nvPr/>
        </p:nvPicPr>
        <p:blipFill>
          <a:blip r:embed="rId5"/>
          <a:srcRect l="57228" t="66814" r="20071" b="11318"/>
          <a:stretch/>
        </p:blipFill>
        <p:spPr>
          <a:xfrm>
            <a:off x="4643280" y="5229360"/>
            <a:ext cx="1297080" cy="93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738360" cy="1087560"/>
          </a:xfrm>
          <a:prstGeom prst="rect">
            <a:avLst/>
          </a:prstGeom>
          <a:ln w="0">
            <a:noFill/>
          </a:ln>
        </p:spPr>
      </p:pic>
      <p:sp>
        <p:nvSpPr>
          <p:cNvPr id="132" name="Cloud"/>
          <p:cNvSpPr/>
          <p:nvPr/>
        </p:nvSpPr>
        <p:spPr>
          <a:xfrm>
            <a:off x="2700360" y="1413000"/>
            <a:ext cx="129708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3440" y="156204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SM/</a:t>
            </a:r>
            <a:br>
              <a:rPr sz="1600"/>
            </a:b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PR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7453440" y="2846520"/>
            <a:ext cx="129672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314172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WifFi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y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700280"/>
            <a:ext cx="53276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e are all very mobile</a:t>
            </a:r>
            <a:br>
              <a:rPr sz="2400"/>
            </a:b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ravelling -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getting from one place to another (bus, train, plane)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Visiting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- spending time in one place for a prolonged period of time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andering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- extensive mobility in a building or area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583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o are mobile learner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5080" y="177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ers in full-time education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335772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orkplace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0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ccasional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35772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59280" y="4941720"/>
            <a:ext cx="17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5280" y="1484280"/>
            <a:ext cx="24480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obile lea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 have tracked a number of initiatives over the yea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mobile phon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d there are a number of lesssons to be lear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2:52:23Z</dcterms:created>
  <dc:creator>Jane Knight</dc:creator>
  <dc:description/>
  <dc:language>en-US</dc:language>
  <cp:lastModifiedBy>Jane Knight</cp:lastModifiedBy>
  <dcterms:modified xsi:type="dcterms:W3CDTF">2006-06-23T04:34:16Z</dcterms:modified>
  <cp:revision>97</cp:revision>
  <dc:subject/>
  <dc:title>Mobile Learning 2.0</dc:title>
</cp:coreProperties>
</file>