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3.wmf" ContentType="image/x-wmf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43.png" ContentType="image/png"/>
  <Override PartName="/ppt/media/image38.gif" ContentType="image/gif"/>
  <Override PartName="/ppt/media/image47.jpeg" ContentType="image/jpeg"/>
  <Override PartName="/ppt/media/image48.png" ContentType="image/png"/>
  <Override PartName="/ppt/media/image50.png" ContentType="image/png"/>
  <Override PartName="/ppt/media/image49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36.png" ContentType="image/png"/>
  <Override PartName="/ppt/media/image33.png" ContentType="image/png"/>
  <Override PartName="/ppt/media/image32.png" ContentType="image/png"/>
  <Override PartName="/ppt/media/image1.jpeg" ContentType="image/jpeg"/>
  <Override PartName="/ppt/media/image31.jpeg" ContentType="image/jpeg"/>
  <Override PartName="/ppt/media/image10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5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626920" y="188640"/>
            <a:ext cx="60483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26920" y="188640"/>
            <a:ext cx="60483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e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e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5b5b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5b5b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2089080" cy="92736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2340000" y="179280"/>
            <a:ext cx="6318000" cy="792000"/>
            <a:chOff x="2340000" y="179280"/>
            <a:chExt cx="6318000" cy="792000"/>
          </a:xfrm>
        </p:grpSpPr>
        <p:sp>
          <p:nvSpPr>
            <p:cNvPr id="3" name=""/>
            <p:cNvSpPr/>
            <p:nvPr/>
          </p:nvSpPr>
          <p:spPr>
            <a:xfrm flipH="1">
              <a:off x="5490360" y="179280"/>
              <a:ext cx="916560" cy="7912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742160" y="179280"/>
              <a:ext cx="915480" cy="7912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40000" y="180000"/>
              <a:ext cx="915120" cy="7912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6697440" y="179280"/>
              <a:ext cx="915480" cy="791280"/>
            </a:xfrm>
            <a:prstGeom prst="ellipse">
              <a:avLst/>
            </a:prstGeom>
            <a:noFill/>
            <a:ln w="2844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407400" y="179280"/>
              <a:ext cx="915480" cy="791280"/>
            </a:xfrm>
            <a:prstGeom prst="ellipse">
              <a:avLst/>
            </a:prstGeom>
            <a:noFill/>
            <a:ln w="2844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</p:grp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50920" y="624996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© Learning Light, 2006</a:t>
            </a:r>
            <a:endParaRPr b="0" lang="en-US" sz="1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244000" y="6237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D3B3-3842-437A-94DE-F4993D810079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92360" y="1628640"/>
            <a:ext cx="6836760" cy="3200400"/>
            <a:chOff x="1692360" y="1628640"/>
            <a:chExt cx="6836760" cy="3200400"/>
          </a:xfrm>
        </p:grpSpPr>
        <p:sp>
          <p:nvSpPr>
            <p:cNvPr id="48" name=""/>
            <p:cNvSpPr/>
            <p:nvPr/>
          </p:nvSpPr>
          <p:spPr>
            <a:xfrm flipH="1">
              <a:off x="7005600" y="1628640"/>
              <a:ext cx="1523520" cy="15238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213880" y="1628640"/>
              <a:ext cx="1523880" cy="15238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423240" y="162864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423240" y="3305160"/>
              <a:ext cx="1523880" cy="15238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92360" y="3305160"/>
              <a:ext cx="1523520" cy="15238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005600" y="3305160"/>
              <a:ext cx="1523520" cy="1523880"/>
            </a:xfrm>
            <a:prstGeom prst="ellipse">
              <a:avLst/>
            </a:prstGeom>
            <a:noFill/>
            <a:ln w="2844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459640" y="5877000"/>
            <a:ext cx="554040" cy="830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9280" y="179280"/>
            <a:ext cx="2914920" cy="1292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740720" y="6093000"/>
            <a:ext cx="723960" cy="504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5b5b5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b5b5b5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e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5b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e6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5b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5b5b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5b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5b5b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5b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198.51.197.224/images/ConED/womanonphone.jpg&amp;imgrefurl=http://www.howardcc.edu/process.cfm%3Fpage_id%3D860&amp;h=1161&amp;w=1800&amp;sz=704&amp;tbnid=ixbu0J1uGDTjnM:&amp;tbnh=96&amp;tbnw=150&amp;hl=en&amp;start=6&amp;prev=/images%3Fq%3Dwoman%2Bphone%26svnum%3D10%26hl%3Den%26lr%3D%26rls%3DGGLG,GGLG:2006-15,GGLG:en%26sa%3D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nowledgenet.com/elearningsolutions/content/mobile.jsp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eamstime.com/businesspda-thumb229873&amp;imgrefurl=http://www.dreamstime.com/businesspda-image229873&amp;h=200&amp;w=300&amp;sz=28&amp;tbnid=QaJlwZcS2rBqwM:&amp;tbnh=74&amp;tbnw=111&amp;hl=en&amp;start=9&amp;prev=/images%3Fq%3Dbusiness%2Bman%2Bpda%26svnum%3D10%26hl%3Den%26lr%3D%26rls%3DGGLG,GGLG:2006-15,GGLG:en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5f5f5f"/>
                </a:solidFill>
                <a:latin typeface="Arial"/>
              </a:rPr>
              <a:t>Mobile Learning 2.0</a:t>
            </a:r>
            <a:endParaRPr b="0" lang="en-US" sz="3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42920" y="3715920"/>
            <a:ext cx="7408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Jane Knigh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Head of Research Servic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Learning Ligh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e phones and courses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1947960"/>
            <a:ext cx="8569080" cy="2644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5276880"/>
            <a:ext cx="4824360" cy="45972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INSEAD/Nokia/icus Project 2001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hones were useful fo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468000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Memory joggers, tips of the day, glossary inform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Reminders and alerts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Just in time changes/clarification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urse registr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Testing and assessment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Searching for specific inform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mmunications with peers and coach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2637000"/>
            <a:ext cx="3240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urses on PDA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30334" t="31920" r="31910" b="31899"/>
          <a:stretch/>
        </p:blipFill>
        <p:spPr>
          <a:xfrm>
            <a:off x="1763640" y="1413000"/>
            <a:ext cx="597708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urses on PDA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rcRect l="30334" t="31920" r="31910" b="31899"/>
          <a:stretch/>
        </p:blipFill>
        <p:spPr>
          <a:xfrm>
            <a:off x="395280" y="1916280"/>
            <a:ext cx="2089080" cy="1452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56000" y="2349360"/>
            <a:ext cx="701640" cy="72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268360" y="1844640"/>
            <a:ext cx="2544840" cy="444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468360" y="3645000"/>
            <a:ext cx="1574640" cy="1788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979640" y="3789360"/>
            <a:ext cx="1295280" cy="600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324000" y="1125360"/>
            <a:ext cx="2914560" cy="562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3635280" y="1125360"/>
            <a:ext cx="2376720" cy="711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2268360" y="4941720"/>
            <a:ext cx="2619720" cy="505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rcRect l="0" t="0" r="0" b="28591"/>
          <a:stretch/>
        </p:blipFill>
        <p:spPr>
          <a:xfrm>
            <a:off x="3708360" y="2492280"/>
            <a:ext cx="1109880" cy="2305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rcRect l="49640" t="0" r="0" b="0"/>
          <a:stretch/>
        </p:blipFill>
        <p:spPr>
          <a:xfrm>
            <a:off x="6588000" y="1125360"/>
            <a:ext cx="1800360" cy="1619280"/>
          </a:xfrm>
          <a:prstGeom prst="rect">
            <a:avLst/>
          </a:prstGeom>
          <a:ln w="12600">
            <a:solidFill>
              <a:srgbClr val="b5b5b5"/>
            </a:solidFill>
            <a:miter/>
          </a:ln>
        </p:spPr>
      </p:pic>
      <p:grpSp>
        <p:nvGrpSpPr>
          <p:cNvPr id="167" name=""/>
          <p:cNvGrpSpPr/>
          <p:nvPr/>
        </p:nvGrpSpPr>
        <p:grpSpPr>
          <a:xfrm>
            <a:off x="5292720" y="2781360"/>
            <a:ext cx="3373200" cy="576360"/>
            <a:chOff x="5292720" y="2781360"/>
            <a:chExt cx="3373200" cy="576360"/>
          </a:xfrm>
        </p:grpSpPr>
        <p:pic>
          <p:nvPicPr>
            <p:cNvPr id="168" name="" descr=""/>
            <p:cNvPicPr/>
            <p:nvPr/>
          </p:nvPicPr>
          <p:blipFill>
            <a:blip r:embed="rId12"/>
            <a:stretch/>
          </p:blipFill>
          <p:spPr>
            <a:xfrm>
              <a:off x="5513400" y="2781360"/>
              <a:ext cx="31525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13"/>
            <a:stretch/>
          </p:blipFill>
          <p:spPr>
            <a:xfrm>
              <a:off x="5292720" y="3129120"/>
              <a:ext cx="3085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5651640" y="3645000"/>
            <a:ext cx="1260360" cy="1728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5"/>
          <a:stretch/>
        </p:blipFill>
        <p:spPr>
          <a:xfrm>
            <a:off x="7020000" y="4581360"/>
            <a:ext cx="15112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DAs were successfu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ere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devices are already in place and in use, e.g.   large corporates - for PDA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orkforce is mobile, e.g. sales force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ownsid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costly purchase of devices 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costly content development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e Learning today and in the futur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371520" indent="-37152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bile Learning is able to support new trends in workplace lea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71520" indent="-37152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bile Learning embraces the concepts of Web 2.0, which are already changing e-lea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71520" indent="-37152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New, ubiquitous and more functional mobile devices are helping to make mobile learning more successfu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[1] New trends in workplace learn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formal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orkflow learning/Job-embedded learning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ormal v informal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844640"/>
            <a:ext cx="194436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ormal education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university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gramm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8436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ormal training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courses/ programm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informal education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information,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268280"/>
            <a:ext cx="4176720" cy="43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Formal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1268280"/>
            <a:ext cx="4176720" cy="43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Informal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informal training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job-embedded learning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8000" y="4581360"/>
            <a:ext cx="403200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4365720"/>
            <a:ext cx="3311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80% of workplace learning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4581360"/>
            <a:ext cx="237672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4365720"/>
            <a:ext cx="79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24000" y="5157720"/>
            <a:ext cx="237672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9080" y="4941720"/>
            <a:ext cx="1511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100% spen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5805360"/>
            <a:ext cx="223236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7280" y="5589720"/>
            <a:ext cx="1584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Average 4 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training days 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per year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59280" y="5013360"/>
            <a:ext cx="1800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Short pieces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 of content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ON DEMAND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AT THE POINT 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OF NEED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429000"/>
            <a:ext cx="180000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3429000"/>
            <a:ext cx="180000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emi-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/informa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360" y="3429000"/>
            <a:ext cx="187164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3429000"/>
            <a:ext cx="180036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uction/info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formal learning content </a:t>
            </a:r>
            <a:br>
              <a:rPr sz="2800"/>
            </a:b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n mobile phon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2781360"/>
            <a:ext cx="1177920" cy="312840"/>
          </a:xfrm>
          <a:prstGeom prst="rect">
            <a:avLst/>
          </a:prstGeom>
          <a:noFill/>
          <a:ln w="1260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5b5b5"/>
                </a:solidFill>
                <a:latin typeface="Rotis Sans Serif for Nokia"/>
              </a:rPr>
              <a:t>SMS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341360"/>
            <a:ext cx="1430280" cy="13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Your new</a:t>
            </a:r>
            <a:br>
              <a:rPr sz="1200"/>
            </a:b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daily </a:t>
            </a:r>
            <a:br>
              <a:rPr sz="1200"/>
            </a:b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Spanish word</a:t>
            </a:r>
            <a:br>
              <a:rPr sz="1200"/>
            </a:b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is:</a:t>
            </a:r>
            <a:br>
              <a:rPr sz="1200"/>
            </a:b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taverna</a:t>
            </a:r>
            <a:endParaRPr b="0" lang="en-US" sz="1200" spc="-1" strike="noStrike">
              <a:solidFill>
                <a:srgbClr val="b5b5b5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(a bar)</a:t>
            </a:r>
            <a:endParaRPr b="0" lang="en-US" sz="12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1468440" cy="1800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71640" y="5157720"/>
            <a:ext cx="1177920" cy="312840"/>
          </a:xfrm>
          <a:prstGeom prst="rect">
            <a:avLst/>
          </a:prstGeom>
          <a:noFill/>
          <a:ln w="1260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5b5b5"/>
                </a:solidFill>
                <a:latin typeface="Rotis Sans Serif for Nokia"/>
              </a:rPr>
              <a:t>MMS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rcRect l="15320" t="26382" r="28609" b="9647"/>
          <a:stretch/>
        </p:blipFill>
        <p:spPr>
          <a:xfrm>
            <a:off x="2990880" y="1197000"/>
            <a:ext cx="5468760" cy="468000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formal learning content on PDA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31027" t="12586" r="33024" b="6684"/>
          <a:stretch/>
        </p:blipFill>
        <p:spPr>
          <a:xfrm>
            <a:off x="4572000" y="2781360"/>
            <a:ext cx="2136600" cy="3600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68360" y="5373720"/>
            <a:ext cx="2879640" cy="39888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ject from CTAD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29329" t="12586" r="33877" b="7683"/>
          <a:stretch/>
        </p:blipFill>
        <p:spPr>
          <a:xfrm>
            <a:off x="324000" y="836640"/>
            <a:ext cx="2303280" cy="3743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 "/>
          <p:cNvPicPr/>
          <p:nvPr/>
        </p:nvPicPr>
        <p:blipFill>
          <a:blip r:embed="rId3"/>
          <a:stretch/>
        </p:blipFill>
        <p:spPr>
          <a:xfrm>
            <a:off x="6948360" y="1197000"/>
            <a:ext cx="1771920" cy="2352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659640" y="3860640"/>
            <a:ext cx="2411280" cy="70380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First Aid 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for the Pocket PC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rcRect l="31965" t="12586" r="34209" b="6512"/>
          <a:stretch/>
        </p:blipFill>
        <p:spPr>
          <a:xfrm>
            <a:off x="2556000" y="1557360"/>
            <a:ext cx="2087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2356" t="19462" r="16021" b="7678"/>
          <a:stretch/>
        </p:blipFill>
        <p:spPr>
          <a:xfrm>
            <a:off x="1042920" y="620640"/>
            <a:ext cx="6986520" cy="532944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812000" y="6165720"/>
            <a:ext cx="650880" cy="45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459640" y="6021360"/>
            <a:ext cx="45720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[1] New trends in workplace learn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5b5b5"/>
                </a:solidFill>
                <a:latin typeface="Arial"/>
              </a:rPr>
              <a:t>Informal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b5b5b5"/>
                </a:solidFill>
                <a:latin typeface="Arial"/>
              </a:rPr>
              <a:t>Workflow learning/Job-embedded learning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Games-based learning (aka Serious games) and Simulation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For Net-Generation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Ideal form factor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13" name="" descr="Lemonade Tycoon by JAMDAT (Pocket PC)"/>
          <p:cNvPicPr/>
          <p:nvPr/>
        </p:nvPicPr>
        <p:blipFill>
          <a:blip r:embed="rId1"/>
          <a:stretch/>
        </p:blipFill>
        <p:spPr>
          <a:xfrm>
            <a:off x="5580000" y="350028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580000" y="5300640"/>
            <a:ext cx="2305080" cy="70380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Lemonade 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Tycoon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[2] Mobile Learning 2.0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e Learning is taking on board and complementing the concepts of Web 2.0 which have led to the emergence of E-Learning 2.0 and … Mobile Learning 2.0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3357720"/>
            <a:ext cx="4067280" cy="79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Web 1.0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3357720"/>
            <a:ext cx="3959280" cy="79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Web 2.0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4435560"/>
            <a:ext cx="4105440" cy="15721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4437000"/>
            <a:ext cx="3959280" cy="155700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sharing (content)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syndication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tagg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bile Learning 2.0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1844640"/>
            <a:ext cx="4067280" cy="79236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E-Learning 2.0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1844640"/>
            <a:ext cx="4032360" cy="79236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Mobile Learning 2.0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3068640"/>
            <a:ext cx="4105440" cy="2128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blog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RS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wiki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social application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3068640"/>
            <a:ext cx="4105440" cy="2128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moblogs and vlog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podcasts (audio blogs)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RS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collaborative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[3] Ubiquitous devic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32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st successful devices are those already being significantly used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e phones – moblogging and vlogg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Pods/MP3 players - podcast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3545" t="0" r="17649" b="0"/>
          <a:stretch/>
        </p:blipFill>
        <p:spPr>
          <a:xfrm>
            <a:off x="4284720" y="1197000"/>
            <a:ext cx="1439640" cy="244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724360" y="2349360"/>
            <a:ext cx="2367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dividual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rcRect l="13806" t="17522" r="17535" b="8663"/>
          <a:stretch/>
        </p:blipFill>
        <p:spPr>
          <a:xfrm>
            <a:off x="1257480" y="620640"/>
            <a:ext cx="6697440" cy="540072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dividual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rganisational/department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hat is happening, upcoming, etc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b5b5b5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b5b5b5"/>
                </a:solidFill>
                <a:latin typeface="Arial"/>
              </a:rPr>
              <a:t>development projects </a:t>
            </a:r>
            <a:endParaRPr b="0" lang="en-US" sz="2800" spc="-1" strike="noStrike">
              <a:solidFill>
                <a:srgbClr val="b5b5b5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5b5b5"/>
                </a:solidFill>
                <a:latin typeface="Arial"/>
              </a:rPr>
              <a:t>L&amp;D departments – new learning events</a:t>
            </a:r>
            <a:endParaRPr b="0" lang="en-US" sz="28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8675" t="17522" r="10890" b="10631"/>
          <a:stretch/>
        </p:blipFill>
        <p:spPr>
          <a:xfrm>
            <a:off x="541440" y="1052640"/>
            <a:ext cx="7845480" cy="525600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dividual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rganisational/department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hat is happening, upcoming, etc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b5b5b5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b5b5b5"/>
                </a:solidFill>
                <a:latin typeface="Arial"/>
              </a:rPr>
              <a:t>development projects </a:t>
            </a:r>
            <a:endParaRPr b="0" lang="en-US" sz="2800" spc="-1" strike="noStrike">
              <a:solidFill>
                <a:srgbClr val="b5b5b5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5b5b5"/>
                </a:solidFill>
                <a:latin typeface="Arial"/>
              </a:rPr>
              <a:t>L&amp;D departments – new learning events</a:t>
            </a:r>
            <a:endParaRPr b="0" lang="en-US" sz="2800" spc="-1" strike="noStrike">
              <a:solidFill>
                <a:srgbClr val="b5b5b5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f5f5f"/>
                </a:solidFill>
                <a:latin typeface="Arial"/>
              </a:rPr>
              <a:t>Learning tools</a:t>
            </a:r>
            <a:endParaRPr b="0" lang="en-US" sz="35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Course blogs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rcRect l="5685" t="18507" r="9376" b="7678"/>
          <a:stretch/>
        </p:blipFill>
        <p:spPr>
          <a:xfrm>
            <a:off x="468360" y="620640"/>
            <a:ext cx="8285040" cy="539928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arning Ligh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1125360"/>
            <a:ext cx="1727280" cy="14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fessional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4149720"/>
            <a:ext cx="1727280" cy="1440000"/>
          </a:xfrm>
          <a:prstGeom prst="ellipse">
            <a:avLst/>
          </a:prstGeom>
          <a:solidFill>
            <a:srgbClr val="ffe600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Research</a:t>
            </a:r>
            <a:br>
              <a:rPr sz="2000"/>
            </a:b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4221000"/>
            <a:ext cx="1727280" cy="14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Membership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484360" y="4941720"/>
            <a:ext cx="395928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4221000"/>
            <a:ext cx="151272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Members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have free 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access to our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own research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050920" y="2060640"/>
            <a:ext cx="1657440" cy="223200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2492280"/>
            <a:ext cx="1513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Our research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forms our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consultancy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2133720"/>
            <a:ext cx="1800360" cy="215892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2565360"/>
            <a:ext cx="158436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Our clients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automatically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become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812000" y="6165720"/>
            <a:ext cx="650880" cy="454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459640" y="6021360"/>
            <a:ext cx="45720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rcRect l="3138" t="18507" r="5685" b="10631"/>
          <a:stretch/>
        </p:blipFill>
        <p:spPr>
          <a:xfrm>
            <a:off x="142920" y="982800"/>
            <a:ext cx="8893080" cy="518292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blogging and vlogg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2367000" cy="3456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dcasts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6119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Pod + broadcast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Pod or MP3 play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ery popula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eople listen to podcasts in their </a:t>
            </a:r>
            <a:br>
              <a:rPr sz="2800"/>
            </a:b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aily liv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ownload the audio (or video) file to your PC (and copy to MP3 player if you want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R Subscribe to the podcast (using RSS and aggregator) and let the computer take care of it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97256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71440" y="115920"/>
            <a:ext cx="862164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rporate podcast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1844640"/>
            <a:ext cx="287964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ales Training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duct updates and competitor information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60360" y="342900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68360" y="1700280"/>
            <a:ext cx="3527280" cy="4033800"/>
          </a:xfrm>
          <a:prstGeom prst="rect">
            <a:avLst/>
          </a:prstGeom>
          <a:noFill/>
          <a:ln w="28440">
            <a:solidFill>
              <a:srgbClr val="ff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88000" y="1628640"/>
            <a:ext cx="3671640" cy="1594080"/>
          </a:xfrm>
          <a:prstGeom prst="rect">
            <a:avLst/>
          </a:prstGeom>
          <a:noFill/>
          <a:ln w="28440">
            <a:solidFill>
              <a:srgbClr val="ff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News and Briefings (BT)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OneIT news and briefings including strategic initiativ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076640"/>
            <a:ext cx="3527280" cy="1594080"/>
          </a:xfrm>
          <a:prstGeom prst="rect">
            <a:avLst/>
          </a:prstGeom>
          <a:noFill/>
          <a:ln w="28440">
            <a:solidFill>
              <a:srgbClr val="ff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Management Development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Access to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 management guru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4984" t="19491" r="12367" b="12600"/>
          <a:stretch/>
        </p:blipFill>
        <p:spPr>
          <a:xfrm>
            <a:off x="217440" y="620640"/>
            <a:ext cx="8817120" cy="543240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rcRect l="12367" t="18507" r="15320" b="11616"/>
          <a:stretch/>
        </p:blipFill>
        <p:spPr>
          <a:xfrm>
            <a:off x="901800" y="692280"/>
            <a:ext cx="7053120" cy="511164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ducational podcasting (1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554" t="17522" r="3138" b="7678"/>
          <a:stretch/>
        </p:blipFill>
        <p:spPr>
          <a:xfrm>
            <a:off x="541440" y="1090440"/>
            <a:ext cx="7845480" cy="457056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ducational podcasting (2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1477" t="18507" r="25619" b="7678"/>
          <a:stretch/>
        </p:blipFill>
        <p:spPr>
          <a:xfrm>
            <a:off x="1477800" y="1052640"/>
            <a:ext cx="6553440" cy="497520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  <p:pic>
        <p:nvPicPr>
          <p:cNvPr id="259" name="" descr="RSA"/>
          <p:cNvPicPr/>
          <p:nvPr/>
        </p:nvPicPr>
        <p:blipFill>
          <a:blip r:embed="rId2"/>
          <a:stretch/>
        </p:blipFill>
        <p:spPr>
          <a:xfrm>
            <a:off x="395280" y="1268280"/>
            <a:ext cx="8096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rcRect l="5353" t="18704" r="7162" b="15357"/>
          <a:stretch/>
        </p:blipFill>
        <p:spPr>
          <a:xfrm>
            <a:off x="325440" y="981000"/>
            <a:ext cx="8532720" cy="482292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ducational Podcasting (3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8675" t="13585" r="11591" b="7678"/>
          <a:stretch/>
        </p:blipFill>
        <p:spPr>
          <a:xfrm>
            <a:off x="755640" y="404640"/>
            <a:ext cx="7777080" cy="575964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New podcasting terminolog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dogogy = “pedagogical podcasting”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arncast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ursecast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audio lecture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video lectures (audio + PowerPoint slides)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dcasting content cre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ree podcasts to subscribe t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reate your own using free and low cost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Use specialised servic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ormal and informal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1844640"/>
            <a:ext cx="194436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ormal education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university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gramm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8436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ormal training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courses/ programm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7708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informal education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information,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268280"/>
            <a:ext cx="4176720" cy="43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Formal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16360" y="1268280"/>
            <a:ext cx="4176720" cy="43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Informal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informal training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job-embedded learning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77080" y="4365720"/>
            <a:ext cx="1800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moblogs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vblogs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podcasts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syndicated via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RSS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4365720"/>
            <a:ext cx="388944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course support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collaborative learning</a:t>
            </a:r>
            <a:br>
              <a:rPr sz="1800"/>
            </a:b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instructional content</a:t>
            </a:r>
            <a:br>
              <a:rPr sz="1800"/>
            </a:b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podcasts (coursecasts)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9280" y="4365720"/>
            <a:ext cx="1800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Short pieces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 of content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ON DEMAND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AT THE POINT 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OF NEED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3502080"/>
            <a:ext cx="180000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3502080"/>
            <a:ext cx="180000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emi-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/informa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48360" y="3502080"/>
            <a:ext cx="187164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3502080"/>
            <a:ext cx="180036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uction/info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835280" y="2492280"/>
            <a:ext cx="5616360" cy="70344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Arial"/>
              </a:rPr>
              <a:t>Mobile Learning 2.0</a:t>
            </a:r>
            <a:endParaRPr b="0" lang="en-US" sz="4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71640" y="386064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You heard it here first!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4520" y="115920"/>
            <a:ext cx="876456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arning Light Research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Quick Guides to trends and technolog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Podcasting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Blogging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RS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eb 2.0 technologie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4653000"/>
            <a:ext cx="7345440" cy="132300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ww.learninglight.com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jane.knight@learninglight.com 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at is m-learning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istory of m-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-Learning today and in the futur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at is mobile learning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50920" y="1125360"/>
            <a:ext cx="2449440" cy="3419640"/>
            <a:chOff x="250920" y="1125360"/>
            <a:chExt cx="2449440" cy="3419640"/>
          </a:xfrm>
        </p:grpSpPr>
        <p:sp>
          <p:nvSpPr>
            <p:cNvPr id="117" name=""/>
            <p:cNvSpPr/>
            <p:nvPr/>
          </p:nvSpPr>
          <p:spPr>
            <a:xfrm>
              <a:off x="250920" y="1125360"/>
              <a:ext cx="244944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8080"/>
                  </a:solidFill>
                  <a:latin typeface="Rotis Sans Serif for Nokia"/>
                </a:rPr>
                <a:t>Mobile learning</a:t>
              </a:r>
              <a:r>
                <a:rPr b="0" lang="en-GB" sz="2000" spc="-1" strike="noStrike">
                  <a:solidFill>
                    <a:srgbClr val="808080"/>
                  </a:solidFill>
                  <a:latin typeface="Rotis Sans Serif for Nokia"/>
                </a:rPr>
                <a:t> originally referred to the use of laptop computers, which freed learners from the desktop</a:t>
              </a:r>
              <a:endParaRPr b="0" lang="en-US" sz="2000" spc="-1" strike="noStrike">
                <a:solidFill>
                  <a:srgbClr val="b5b5b5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828720" y="2708280"/>
              <a:ext cx="1366920" cy="18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4140360" y="256536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Rotis Sans Serif for Nokia"/>
              </a:rPr>
              <a:t>Mobile phones opened up the concept of </a:t>
            </a:r>
            <a:r>
              <a:rPr b="1" lang="en-GB" sz="2000" spc="-1" strike="noStrike">
                <a:solidFill>
                  <a:srgbClr val="808080"/>
                </a:solidFill>
                <a:latin typeface="Rotis Sans Serif for Nokia"/>
              </a:rPr>
              <a:t>wireless learning </a:t>
            </a:r>
            <a:r>
              <a:rPr b="0" lang="en-GB" sz="2000" spc="-1" strike="noStrike">
                <a:solidFill>
                  <a:srgbClr val="808080"/>
                </a:solidFill>
                <a:latin typeface="Rotis Sans Serif for Nokia"/>
              </a:rPr>
              <a:t>(via GPRS and GSM)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1366920" cy="108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46530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2360" y="4724280"/>
            <a:ext cx="2742480" cy="1191240"/>
          </a:xfrm>
          <a:prstGeom prst="rect">
            <a:avLst/>
          </a:prstGeom>
          <a:solidFill>
            <a:srgbClr val="b5b5b5"/>
          </a:solidFill>
          <a:ln w="1260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“</a:t>
            </a: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Learning has moved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from the classroom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onto your desktop 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and into your pocket”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141300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92720" y="1197000"/>
            <a:ext cx="3924360" cy="1008000"/>
          </a:xfrm>
          <a:prstGeom prst="rect">
            <a:avLst/>
          </a:prstGeom>
          <a:solidFill>
            <a:srgbClr val="b5b5b5"/>
          </a:solidFill>
          <a:ln w="1260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Always on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Always on you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Independent of time and</a:t>
            </a:r>
            <a:r>
              <a:rPr b="1" lang="en-GB" sz="2000" spc="-1" strike="noStrike">
                <a:solidFill>
                  <a:srgbClr val="0a0900"/>
                </a:solidFill>
                <a:latin typeface="Rotis Sans Serif for Nokia"/>
              </a:rPr>
              <a:t> </a:t>
            </a: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space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643280" y="3933720"/>
            <a:ext cx="3673080" cy="1800000"/>
            <a:chOff x="4643280" y="3933720"/>
            <a:chExt cx="3673080" cy="1800000"/>
          </a:xfrm>
        </p:grpSpPr>
        <p:sp>
          <p:nvSpPr>
            <p:cNvPr id="126" name=""/>
            <p:cNvSpPr/>
            <p:nvPr/>
          </p:nvSpPr>
          <p:spPr>
            <a:xfrm>
              <a:off x="5942520" y="3933720"/>
              <a:ext cx="237384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8080"/>
                  </a:solidFill>
                  <a:latin typeface="Rotis Sans Serif for Nokia"/>
                </a:rPr>
                <a:t>Pocket PCs and other devices </a:t>
              </a:r>
              <a:r>
                <a:rPr b="0" lang="en-GB" sz="2000" spc="-1" strike="noStrike">
                  <a:solidFill>
                    <a:srgbClr val="808080"/>
                  </a:solidFill>
                  <a:latin typeface="Rotis Sans Serif for Nokia"/>
                </a:rPr>
                <a:t>used for</a:t>
              </a:r>
              <a:r>
                <a:rPr b="1" lang="en-GB" sz="2000" spc="-1" strike="noStrike">
                  <a:solidFill>
                    <a:srgbClr val="808080"/>
                  </a:solidFill>
                  <a:latin typeface="Rotis Sans Serif for Nokia"/>
                </a:rPr>
                <a:t> </a:t>
              </a:r>
              <a:r>
                <a:rPr b="0" lang="en-GB" sz="2000" spc="-1" strike="noStrike">
                  <a:solidFill>
                    <a:srgbClr val="808080"/>
                  </a:solidFill>
                  <a:latin typeface="Rotis Sans Serif for Nokia"/>
                </a:rPr>
                <a:t>learning purposes led to the term </a:t>
              </a:r>
              <a:r>
                <a:rPr b="1" lang="en-GB" sz="2000" spc="-1" strike="noStrike">
                  <a:solidFill>
                    <a:srgbClr val="808080"/>
                  </a:solidFill>
                  <a:latin typeface="Rotis Sans Serif for Nokia"/>
                </a:rPr>
                <a:t>handheld learning</a:t>
              </a:r>
              <a:endParaRPr b="0" lang="en-US" sz="2000" spc="-1" strike="noStrike">
                <a:solidFill>
                  <a:srgbClr val="b5b5b5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643280" y="4078080"/>
              <a:ext cx="1071360" cy="1152360"/>
              <a:chOff x="4643280" y="4078080"/>
              <a:chExt cx="1071360" cy="1152360"/>
            </a:xfrm>
          </p:grpSpPr>
          <p:pic>
            <p:nvPicPr>
              <p:cNvPr id="1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43280" y="4078080"/>
                <a:ext cx="760680" cy="92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73760" y="4204800"/>
                <a:ext cx="740880" cy="102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30" name="" descr=""/>
          <p:cNvPicPr/>
          <p:nvPr/>
        </p:nvPicPr>
        <p:blipFill>
          <a:blip r:embed="rId5"/>
          <a:srcRect l="57228" t="66814" r="20071" b="11318"/>
          <a:stretch/>
        </p:blipFill>
        <p:spPr>
          <a:xfrm>
            <a:off x="4643280" y="5229360"/>
            <a:ext cx="1297080" cy="93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211640" y="4437000"/>
            <a:ext cx="738360" cy="1087560"/>
          </a:xfrm>
          <a:prstGeom prst="rect">
            <a:avLst/>
          </a:prstGeom>
          <a:ln w="0">
            <a:noFill/>
          </a:ln>
        </p:spPr>
      </p:pic>
      <p:sp>
        <p:nvSpPr>
          <p:cNvPr id="132" name="Cloud"/>
          <p:cNvSpPr/>
          <p:nvPr/>
        </p:nvSpPr>
        <p:spPr>
          <a:xfrm>
            <a:off x="2700360" y="1413000"/>
            <a:ext cx="1297080" cy="869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3440" y="1562040"/>
            <a:ext cx="13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5b5b5"/>
                </a:solidFill>
                <a:latin typeface="Arial"/>
              </a:rPr>
              <a:t>GSM/</a:t>
            </a:r>
            <a:br>
              <a:rPr sz="1600"/>
            </a:br>
            <a:r>
              <a:rPr b="0" lang="en-GB" sz="1600" spc="-1" strike="noStrike">
                <a:solidFill>
                  <a:srgbClr val="b5b5b5"/>
                </a:solidFill>
                <a:latin typeface="Arial"/>
              </a:rPr>
              <a:t>GPRS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34" name="Cloud"/>
          <p:cNvSpPr/>
          <p:nvPr/>
        </p:nvSpPr>
        <p:spPr>
          <a:xfrm>
            <a:off x="7453440" y="2846520"/>
            <a:ext cx="1296720" cy="869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314172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5b5b5"/>
                </a:solidFill>
                <a:latin typeface="Arial"/>
              </a:rPr>
              <a:t>WifFi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y mobile learning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700280"/>
            <a:ext cx="53276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We are all very mobile</a:t>
            </a:r>
            <a:br>
              <a:rPr sz="2400"/>
            </a:b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ravelling - </a:t>
            </a: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getting from one place to another (bus, train, plane)</a:t>
            </a:r>
            <a:br>
              <a:rPr sz="2400"/>
            </a:b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Visiting</a:t>
            </a: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 - spending time in one place for a prolonged period of time</a:t>
            </a:r>
            <a:br>
              <a:rPr sz="2400"/>
            </a:b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Wandering </a:t>
            </a: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- extensive mobility in a building or area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2583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o are mobile learners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5080" y="1773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arners in full-time education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335772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orkplace learners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5084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ccasional learners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357720"/>
            <a:ext cx="1871640" cy="1247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59280" y="4941720"/>
            <a:ext cx="1728720" cy="1276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95280" y="1484280"/>
            <a:ext cx="244800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istory of mobile lea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 have tracked a number of initiatives over the yea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using mobile phone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using PDA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nd there are a number of lesssons to be learn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12:52:23Z</dcterms:created>
  <dc:creator>Jane Knight</dc:creator>
  <dc:description/>
  <dc:language>en-US</dc:language>
  <cp:lastModifiedBy>Jane Knight</cp:lastModifiedBy>
  <dcterms:modified xsi:type="dcterms:W3CDTF">2006-06-23T04:34:16Z</dcterms:modified>
  <cp:revision>97</cp:revision>
  <dc:subject/>
  <dc:title>Mobile Learning 2.0</dc:title>
</cp:coreProperties>
</file>